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B45-B0EE-4A1D-AC4C-3D56FD6E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0FB-3480-4C37-8C70-3DB39FF5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B6C-FAC0-4157-B237-EBCBCD5E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896-9C5B-4CBC-853A-91BD83D5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D16-0595-4AB9-8FE9-1741A09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4F9-F7D0-4CFC-B574-96747DBF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379-6735-4454-964D-DDD580F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E35-A972-4FD9-BC63-07518DE3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FC9-401E-4231-8AE0-D8C0001F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37B-A137-4319-80B9-6545958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9F4-A076-4D4A-93FE-DA5DE83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2A4-23CD-48D6-91E2-24A3A561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2BC5-D10C-44BA-949D-405FB4D60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h Blood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h-posi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ood has the Rh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h-nega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ood does not have the Rh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dies against the Rh antigen do not develop unless an Rh-negative person is exposed to Rh-positive bloo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through a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ccur through transfer of blood across the plac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a type of connective tissue that consists of formed elements (cells and cell fragments) surrounded by a liquid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e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 blood cells (RBC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rythr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ccount for about 95% of the volume of formed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ite blood cells (WBC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euk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tele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omb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ell fragments) account for the other 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ythrocytes (RB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rythrocytes (RBC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isk-shaped cells that conta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moglob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responsible for red col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mary function of erythrocyt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ransport oxygen from the lungs to the various tissue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ist in the transport of carbon dioxide from the tissues to the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ukocytes (WB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ukoc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BCs) are spherical cells that are a whitish color because they don’t have hemoglo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the body against invading 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dead cells and debris from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tel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ombocy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re fragments of cells that are produced in the red bone m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s are involved with preventing blood loss (important role in homeosta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ale yellow fluid 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% substances (proteins, ions, nutrients, gases, and waste produ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osmot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volved in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face of erythrocytes have molecules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tige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in the plasma there are proteins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tibod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dies are very specific – each antibody can only combine with a certain ant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tigens have been categorized in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lood grou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 Blood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991040"/>
        </p:xfrm>
        <a:graphic>
          <a:graphicData uri="http://schemas.openxmlformats.org/drawingml/2006/table">
            <a:tbl>
              <a:tblPr/>
              <a:tblGrid>
                <a:gridCol w="2057400"/>
                <a:gridCol w="3048120"/>
                <a:gridCol w="3124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of 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0:35:18Z</dcterms:created>
  <dc:creator>nhs</dc:creator>
  <dc:description/>
  <dc:language>en-US</dc:language>
  <cp:lastModifiedBy>jbible</cp:lastModifiedBy>
  <dcterms:modified xsi:type="dcterms:W3CDTF">2009-12-02T21:25:45Z</dcterms:modified>
  <cp:revision>5</cp:revision>
  <dc:subject/>
  <dc:title>Blood</dc:title>
</cp:coreProperties>
</file>